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997-C186-4E44-AFF0-79E98E72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BC8-D042-4B5F-8D23-B973134B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5D8-C866-4085-9990-7344250E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254-26E3-49AD-AE92-32F9E01D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E1E-F9D8-4AD8-9054-07FEC3C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BB2-383D-489A-A530-40208778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77FA-2E49-47F5-A4C5-462EF298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A9B-D43B-4130-8674-2936D7E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380-4C0B-43BA-906E-D3081379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0A9-7A42-4DB6-BDE6-57C41C7C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AAA-70D3-4DDB-8792-4081E8A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CAD-3BD6-4B74-BC0B-106E382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tus No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E55-85F9-4FB7-9042-0A0BB5BED6C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rt.vscht.cz/bioteam/lab/pocitac.jpg&amp;imgrefurl=http://uprt.vscht.cz/bioteam/lab/pc.html&amp;h=223&amp;w=250&amp;sz=18&amp;tbnid=LbnGbWmZ5C0J:&amp;tbnh=94&amp;tbnw=106&amp;hl=cs&amp;start=11&amp;prev=/images%3Fq%3Dpo%25C4%258D%25C3%25ADta%25C4%258D%26svnum%3D10%26hl%3Dc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uprt.vscht.cz/bioteam/lab/pocitac.jpg&amp;imgrefurl=http://uprt.vscht.cz/bioteam/lab/pc.html&amp;h=223&amp;w=250&amp;sz=18&amp;tbnid=LbnGbWmZ5C0J:&amp;tbnh=94&amp;tbnw=106&amp;hl=cs&amp;start=11&amp;prev=/images%3Fq%3Dpo%25C4%258D%25C3%25ADta%25C4%258D%26svnum%3D10%26hl%3Dcs%26lr%3D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uprt.vscht.cz/bioteam/lab/pocitac.jpg&amp;imgrefurl=http://uprt.vscht.cz/bioteam/lab/pc.html&amp;h=223&amp;w=250&amp;sz=18&amp;tbnid=LbnGbWmZ5C0J:&amp;tbnh=94&amp;tbnw=106&amp;hl=cs&amp;start=11&amp;prev=/images%3Fq%3Dpo%25C4%258D%25C3%25ADta%25C4%258D%26svnum%3D10%26hl%3Dcs%26lr%3D" TargetMode="External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AA9-30F2-4884-A25B-A9253DC083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0920" y="1989000"/>
            <a:ext cx="7561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 to je Lotus No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tus Notes je „groupwar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 co to je „groupware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roupware je program, který umožňuje dvěma a více lidem navzájem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munikov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operov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společném díle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koordinov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jich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3F7-84A5-44E3-A052-3432B22395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č používat L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že „Největším problémem pracovních skupin není nedostatek duševních nebo materiálových zdrojů, ale komunikace v rámci skupiny“.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720" y="5661000"/>
            <a:ext cx="84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Carda, Antonín   Workflow :   řízení firemních procesů /    Praha :   Grada,   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E18-18D1-4FA1-8D55-D188FB3F4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kladní funkce, které LN a spol poskytují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ktronická po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obní kalendá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upinové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áva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dávání a sledování plnění úk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ílení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0EF-F5CF-4F1D-AF91-9FBC2D5B5A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konkrétně umožňu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ílat poštu včetně přiložených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erpat ze společných dat – např. zpravodajství, telefonní seznamy, adresáře, informace o státech a podob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ordinovat využívání času, efektivně sdílet společné ú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282-95D8-4580-8083-9D22AE9D3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é jsou nejrozšířenější produk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Lotus Notes (klient) + Lotus Domino (ser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S Outlook + MS Exchang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ell Grou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061-EDCC-4AFC-8FCD-D8376349EF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 to tedy fungu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068640"/>
            <a:ext cx="1800360" cy="1596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1916280"/>
            <a:ext cx="649440" cy="57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20000" y="270828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020000" y="378936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6732720" y="4797360"/>
            <a:ext cx="649080" cy="576360"/>
          </a:xfrm>
          <a:prstGeom prst="rect">
            <a:avLst/>
          </a:prstGeom>
          <a:ln w="0">
            <a:noFill/>
          </a:ln>
        </p:spPr>
      </p:pic>
      <p:cxnSp>
        <p:nvCxnSpPr>
          <p:cNvPr id="60" name=""/>
          <p:cNvCxnSpPr>
            <a:stCxn id="55" idx="3"/>
            <a:endCxn id="56" idx="2"/>
          </p:cNvCxnSpPr>
          <p:nvPr/>
        </p:nvCxnSpPr>
        <p:spPr>
          <a:xfrm flipV="1">
            <a:off x="5435280" y="2491560"/>
            <a:ext cx="975240" cy="13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" name=""/>
          <p:cNvCxnSpPr>
            <a:endCxn id="57" idx="1"/>
          </p:cNvCxnSpPr>
          <p:nvPr/>
        </p:nvCxnSpPr>
        <p:spPr>
          <a:xfrm flipV="1">
            <a:off x="5508720" y="2997000"/>
            <a:ext cx="1512000" cy="86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5" idx="3"/>
            <a:endCxn id="58" idx="1"/>
          </p:cNvCxnSpPr>
          <p:nvPr/>
        </p:nvCxnSpPr>
        <p:spPr>
          <a:xfrm>
            <a:off x="5435280" y="3866760"/>
            <a:ext cx="158508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5" idx="3"/>
            <a:endCxn id="59" idx="1"/>
          </p:cNvCxnSpPr>
          <p:nvPr/>
        </p:nvCxnSpPr>
        <p:spPr>
          <a:xfrm>
            <a:off x="5435280" y="3866760"/>
            <a:ext cx="1297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55640" y="2924280"/>
            <a:ext cx="2521080" cy="1657080"/>
          </a:xfrm>
          <a:prstGeom prst="rightArrow">
            <a:avLst>
              <a:gd name="adj1" fmla="val 50000"/>
              <a:gd name="adj2" fmla="val 38035"/>
            </a:avLst>
          </a:prstGeom>
          <a:solidFill>
            <a:srgbClr val="fe4c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732000" y="1916280"/>
            <a:ext cx="1152360" cy="504720"/>
          </a:xfrm>
          <a:prstGeom prst="rightArrow">
            <a:avLst>
              <a:gd name="adj1" fmla="val 50000"/>
              <a:gd name="adj2" fmla="val 57079"/>
            </a:avLst>
          </a:prstGeom>
          <a:solidFill>
            <a:srgbClr val="fe4c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740000" y="2708280"/>
            <a:ext cx="1152360" cy="504720"/>
          </a:xfrm>
          <a:prstGeom prst="rightArrow">
            <a:avLst>
              <a:gd name="adj1" fmla="val 50000"/>
              <a:gd name="adj2" fmla="val 57079"/>
            </a:avLst>
          </a:prstGeom>
          <a:solidFill>
            <a:srgbClr val="fe4c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000" y="3789360"/>
            <a:ext cx="1152360" cy="504720"/>
          </a:xfrm>
          <a:prstGeom prst="rightArrow">
            <a:avLst>
              <a:gd name="adj1" fmla="val 50000"/>
              <a:gd name="adj2" fmla="val 57079"/>
            </a:avLst>
          </a:prstGeom>
          <a:solidFill>
            <a:srgbClr val="fe4c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51640" y="4797360"/>
            <a:ext cx="1152720" cy="504720"/>
          </a:xfrm>
          <a:prstGeom prst="rightArrow">
            <a:avLst>
              <a:gd name="adj1" fmla="val 50000"/>
              <a:gd name="adj2" fmla="val 57097"/>
            </a:avLst>
          </a:prstGeom>
          <a:solidFill>
            <a:srgbClr val="fe4c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828-4AD2-4743-871D-D39FA84BAD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do se k jakým datům dost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ý by měl mít přístup k datům, která se ho týkají – pak může mít možnost je upravovat nebo 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, k jakým datům se uživatel dostane, počítač určí obvykle podle uživ. jmé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ina dat je dostupná vš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ý by měl mít výhradní přístup ke své poštovní schrá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39D-8A0D-413F-B97A-5E8E2A52C0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tedy důležité rozumně používat hesl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la bychom si neměli nikam ps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la by měla obsahovat písmenka i čís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la by se neměla vyskytovat ve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la by se měla často mě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sla by měla být různá pro různé prog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 protože tak to v praxi nemůže běžně fungovat, je třeba alespoň hesla nikomu neříkat, nepsat je na místa blízko počítače a občas je změ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5D2-9EAD-4BAF-A578-2186D921C3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7:37:03Z</dcterms:created>
  <dc:creator>ucebna</dc:creator>
  <dc:description/>
  <dc:language>en-US</dc:language>
  <cp:lastModifiedBy>Jiří Beran</cp:lastModifiedBy>
  <dcterms:modified xsi:type="dcterms:W3CDTF">2006-06-07T22:06:10Z</dcterms:modified>
  <cp:revision>3</cp:revision>
  <dc:subject/>
  <dc:title>Lotus Notes</dc:title>
</cp:coreProperties>
</file>